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D0F-51F9-4DB7-BD2C-E1040478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2D2-1B1E-42DE-B03E-9791CA00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D2B-8EBC-4C6F-BB44-2ABB933B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9DD-10A1-4CF0-A16B-A77B2E41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6B0-B023-456C-935E-35CF0B93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6E2-0CEA-4FE0-8811-A7C226C7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51C-BCF6-4871-8957-657A2606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640-95F6-40B6-BD40-7915C40B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B80-586F-468B-A91A-B1619F3A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4CA-7F81-4EF6-AE57-A5A1EBF6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847-2BBB-4722-A543-B6CEFA75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C79-0F4C-48AF-AEC5-0116969D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0585-E4CE-4366-B659-D9C5FED82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114800" cy="11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ِسرّ قيامة  المسيح ربِنا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ستمدّ الغفر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نهتف مبارك مَن بصلبه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عـتـقـنا من الطغي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ه قدوس قدوس  قدوس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تعظم رحمـ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352680" cy="9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معظم تذكار   أمّه مريم        سيّدة  الأكو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مكرّم ذكر جميع القديسين وشعبه بني  الإيم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هللوي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33:28Z</dcterms:created>
  <dc:creator>SUZANNE.MD</dc:creator>
  <dc:description/>
  <dc:language>en-US</dc:language>
  <cp:lastModifiedBy>HANI SAFI</cp:lastModifiedBy>
  <dcterms:modified xsi:type="dcterms:W3CDTF">2003-04-16T13:53:06Z</dcterms:modified>
  <cp:revision>1</cp:revision>
  <dc:subject/>
  <dc:title>PowerPoint Presentation</dc:title>
</cp:coreProperties>
</file>